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873-318F-4470-B2E5-E911B7C30B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BEC0-3FF8-414E-9EE7-F775F1ADEF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267000" y="3429000"/>
            <a:ext cx="54086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51000" y="262584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含有中括号的四则运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889280" y="2997360"/>
            <a:ext cx="441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[113-(34.15+38.25)]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[113-72.4]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.6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258920" y="2625840"/>
            <a:ext cx="68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一”黄金周期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城旅行社共收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阳光旅行社共收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7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黄金周期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城旅行社平均每天比阳光旅行社多收入多少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1"/>
          <p:cNvSpPr/>
          <p:nvPr/>
        </p:nvSpPr>
        <p:spPr>
          <a:xfrm>
            <a:off x="1247760" y="299736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山城旅行社平均每天比阳光旅行社多收入多少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先求出黄金周期间山城旅行社比阳光旅行社多收入多少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514520" y="3141720"/>
            <a:ext cx="60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52.5-47.6)÷7=0.7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城旅行社平均每天比阳光旅行社多收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10"/>
          <p:cNvSpPr/>
          <p:nvPr/>
        </p:nvSpPr>
        <p:spPr>
          <a:xfrm>
            <a:off x="1550880" y="1760400"/>
            <a:ext cx="54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5248440" y="2232000"/>
            <a:ext cx="7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74" name="矩形 19"/>
          <p:cNvSpPr/>
          <p:nvPr/>
        </p:nvSpPr>
        <p:spPr>
          <a:xfrm>
            <a:off x="1042920" y="270828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明白四则混合运算的运算顺序。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只有加、减、乘、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小括号里面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中括号里面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算括号外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8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5"/>
          <p:cNvSpPr/>
          <p:nvPr/>
        </p:nvSpPr>
        <p:spPr>
          <a:xfrm rot="18297600">
            <a:off x="6940440" y="4692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20"/>
          <p:cNvSpPr/>
          <p:nvPr/>
        </p:nvSpPr>
        <p:spPr>
          <a:xfrm rot="18297600">
            <a:off x="7100640" y="2572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1550880" y="1760400"/>
            <a:ext cx="54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4"/>
          <p:cNvSpPr/>
          <p:nvPr/>
        </p:nvSpPr>
        <p:spPr>
          <a:xfrm>
            <a:off x="5248440" y="2232000"/>
            <a:ext cx="7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6"/>
          <p:cNvSpPr/>
          <p:nvPr/>
        </p:nvSpPr>
        <p:spPr>
          <a:xfrm>
            <a:off x="1449360" y="3925800"/>
            <a:ext cx="54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都是先算乘除法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算加减法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5146560" y="439740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60"/>
          <p:cNvSpPr/>
          <p:nvPr/>
        </p:nvSpPr>
        <p:spPr>
          <a:xfrm>
            <a:off x="938160" y="1596960"/>
            <a:ext cx="72946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61×[58-(18+3)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×[(48-15)÷3]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908000" y="2746440"/>
            <a:ext cx="402912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61×[58-2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61×3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22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692360" y="4546440"/>
            <a:ext cx="402912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100×[33÷3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100×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=1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60"/>
          <p:cNvSpPr/>
          <p:nvPr/>
        </p:nvSpPr>
        <p:spPr>
          <a:xfrm>
            <a:off x="1042920" y="1862280"/>
            <a:ext cx="69138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根据要求添加合适的括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)   36+24 ÷25-18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加、再除、后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2)  320÷ 5× 26-18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减、再乘、后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同侧圆角矩形 1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360440" y="3138480"/>
            <a:ext cx="24195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617920" y="4689360"/>
            <a:ext cx="2323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[                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3100320" y="4689360"/>
            <a:ext cx="2417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20880" y="1579680"/>
            <a:ext cx="73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果园里的苹果树和桃树共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4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棵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其中苹果树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棵。如果桃树比苹果树多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平均每行有多少棵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同侧圆角矩形 4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1" descr="男孩1"/>
          <p:cNvPicPr/>
          <p:nvPr/>
        </p:nvPicPr>
        <p:blipFill>
          <a:blip r:embed="rId1"/>
          <a:stretch/>
        </p:blipFill>
        <p:spPr>
          <a:xfrm>
            <a:off x="7481880" y="47991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27"/>
          <p:cNvSpPr/>
          <p:nvPr/>
        </p:nvSpPr>
        <p:spPr>
          <a:xfrm>
            <a:off x="3492360" y="5230800"/>
            <a:ext cx="3387960" cy="719280"/>
          </a:xfrm>
          <a:prstGeom prst="wedgeRoundRectCallout">
            <a:avLst>
              <a:gd name="adj1" fmla="val 59189"/>
              <a:gd name="adj2" fmla="val 142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桃树的棵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195640" y="3255840"/>
            <a:ext cx="49687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40-15×2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+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40-36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80÷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棵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30099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四则运算的意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会正确计算四则混合运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含有中括号的混合运算的运算顺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会正确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08200" y="42102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的过程中，能进行有条理的思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1068480" y="155736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农业机械厂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经烧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。剩下的煤如果每天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可以烧多少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4" descr="男孩1"/>
          <p:cNvPicPr/>
          <p:nvPr/>
        </p:nvPicPr>
        <p:blipFill>
          <a:blip r:embed="rId1"/>
          <a:stretch/>
        </p:blipFill>
        <p:spPr>
          <a:xfrm>
            <a:off x="7093080" y="472428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7"/>
          <p:cNvSpPr/>
          <p:nvPr/>
        </p:nvSpPr>
        <p:spPr>
          <a:xfrm>
            <a:off x="3492360" y="5078520"/>
            <a:ext cx="3329280" cy="698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剩下的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411280" y="3062160"/>
            <a:ext cx="489744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-16×1.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9-19.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9.8÷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天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927000" y="1557360"/>
            <a:ext cx="69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工程队挖一条水渠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划每天挖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2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完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实际提前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完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实际平均每天挖多少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同侧圆角矩形 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1"/>
          <p:cNvGrpSpPr/>
          <p:nvPr/>
        </p:nvGrpSpPr>
        <p:grpSpPr>
          <a:xfrm>
            <a:off x="831960" y="4919760"/>
            <a:ext cx="5035320" cy="1938240"/>
            <a:chOff x="831960" y="4919760"/>
            <a:chExt cx="5035320" cy="1938240"/>
          </a:xfrm>
        </p:grpSpPr>
        <p:pic>
          <p:nvPicPr>
            <p:cNvPr id="215" name="Picture 13" descr="男孩2"/>
            <p:cNvPicPr/>
            <p:nvPr/>
          </p:nvPicPr>
          <p:blipFill>
            <a:blip r:embed="rId1"/>
            <a:stretch/>
          </p:blipFill>
          <p:spPr>
            <a:xfrm>
              <a:off x="831960" y="5057640"/>
              <a:ext cx="11952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AutoShape 27"/>
            <p:cNvSpPr/>
            <p:nvPr/>
          </p:nvSpPr>
          <p:spPr>
            <a:xfrm>
              <a:off x="2195280" y="4919760"/>
              <a:ext cx="3672000" cy="936720"/>
            </a:xfrm>
            <a:prstGeom prst="wedgeRoundRectCallout">
              <a:avLst>
                <a:gd name="adj1" fmla="val -56157"/>
                <a:gd name="adj2" fmla="val 14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出水渠的总长度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2195640" y="3090960"/>
            <a:ext cx="45370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×24÷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-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00÷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AutoShape 27"/>
          <p:cNvSpPr/>
          <p:nvPr/>
        </p:nvSpPr>
        <p:spPr>
          <a:xfrm>
            <a:off x="5580000" y="968400"/>
            <a:ext cx="2965680" cy="2100240"/>
          </a:xfrm>
          <a:prstGeom prst="wedgeRoundRectCallout">
            <a:avLst>
              <a:gd name="adj1" fmla="val -58361"/>
              <a:gd name="adj2" fmla="val 131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含有中括号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再算中括号里面的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最后算中括号外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c1c1c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3132000" y="1557360"/>
            <a:ext cx="2448000" cy="1871640"/>
            <a:chOff x="3132000" y="1557360"/>
            <a:chExt cx="2448000" cy="1871640"/>
          </a:xfrm>
        </p:grpSpPr>
        <p:pic>
          <p:nvPicPr>
            <p:cNvPr id="22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285800" y="1557360"/>
              <a:ext cx="12942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32000" y="1686240"/>
              <a:ext cx="128556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矩形 21"/>
          <p:cNvSpPr/>
          <p:nvPr/>
        </p:nvSpPr>
        <p:spPr>
          <a:xfrm>
            <a:off x="615960" y="3429000"/>
            <a:ext cx="7891560" cy="5205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则混合运算中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有加减法或只有乘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按照从左到右的顺序计算。既有加减法又有乘除法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先算乘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算加减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3"/>
          <p:cNvSpPr/>
          <p:nvPr/>
        </p:nvSpPr>
        <p:spPr>
          <a:xfrm>
            <a:off x="652320" y="5013360"/>
            <a:ext cx="7893360" cy="947160"/>
          </a:xfrm>
          <a:prstGeom prst="rect">
            <a:avLst/>
          </a:prstGeom>
          <a:solidFill>
            <a:srgbClr val="6dff44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含有小括号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小括号外面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括号中如果既有加减法又有乘除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先算乘除法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加减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116000" y="1773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题的运算顺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401840" y="275904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×2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53200" y="268452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(8×23-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33600" y="4889520"/>
            <a:ext cx="33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-(424÷4-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509840" y="3736800"/>
            <a:ext cx="31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600÷3+12)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600880" y="488952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78+78×2)-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932360" y="3686040"/>
            <a:ext cx="36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÷9÷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2666880" y="331632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6229440" y="3262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1866960" y="4405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6073920" y="4322880"/>
            <a:ext cx="1377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2476440" y="547380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467400" y="5475240"/>
            <a:ext cx="1233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"/>
          <p:cNvSpPr/>
          <p:nvPr/>
        </p:nvSpPr>
        <p:spPr>
          <a:xfrm>
            <a:off x="1079640" y="1415880"/>
            <a:ext cx="7343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纸箱中装满了大小相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花皮球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绿皮球。现在要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这样的皮球装在同样的纸箱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多少个纸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2" descr="女孩2"/>
          <p:cNvPicPr/>
          <p:nvPr/>
        </p:nvPicPr>
        <p:blipFill>
          <a:blip r:embed="rId1"/>
          <a:stretch/>
        </p:blipFill>
        <p:spPr>
          <a:xfrm>
            <a:off x="250920" y="490860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7"/>
          <p:cNvSpPr/>
          <p:nvPr/>
        </p:nvSpPr>
        <p:spPr>
          <a:xfrm>
            <a:off x="1706400" y="5175360"/>
            <a:ext cx="267984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" descr="C:\Users\Administrator\AppData\Roaming\Tencent\Users\781547643\QQ\WinTemp\RichOle\XE_51N74@2DM9DV~JUBPRBO.png"/>
          <p:cNvPicPr/>
          <p:nvPr/>
        </p:nvPicPr>
        <p:blipFill>
          <a:blip r:embed="rId2"/>
          <a:stretch/>
        </p:blipFill>
        <p:spPr>
          <a:xfrm>
            <a:off x="927000" y="2909880"/>
            <a:ext cx="76485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2" descr="女孩2"/>
          <p:cNvPicPr/>
          <p:nvPr/>
        </p:nvPicPr>
        <p:blipFill>
          <a:blip r:embed="rId1"/>
          <a:stretch/>
        </p:blipFill>
        <p:spPr>
          <a:xfrm>
            <a:off x="299880" y="161604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7"/>
          <p:cNvSpPr/>
          <p:nvPr/>
        </p:nvSpPr>
        <p:spPr>
          <a:xfrm>
            <a:off x="1731960" y="1649520"/>
            <a:ext cx="29638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每个纸箱装了多少个皮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859280" y="2708280"/>
            <a:ext cx="31892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68÷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[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72+32)÷4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68÷[104÷4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468÷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8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3" descr="男孩1"/>
          <p:cNvPicPr/>
          <p:nvPr/>
        </p:nvPicPr>
        <p:blipFill>
          <a:blip r:embed="rId2"/>
          <a:stretch/>
        </p:blipFill>
        <p:spPr>
          <a:xfrm>
            <a:off x="7527960" y="121752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7"/>
          <p:cNvSpPr/>
          <p:nvPr/>
        </p:nvSpPr>
        <p:spPr>
          <a:xfrm>
            <a:off x="4984920" y="1395360"/>
            <a:ext cx="2334960" cy="95400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成一个算式要用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括号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1671480" y="3016080"/>
            <a:ext cx="31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(72+32)÷4=26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468÷26=18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13"/>
          <p:cNvSpPr/>
          <p:nvPr/>
        </p:nvSpPr>
        <p:spPr>
          <a:xfrm>
            <a:off x="4986360" y="454356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纸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703440" y="5445000"/>
            <a:ext cx="7953120" cy="46044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个算式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既有小括号又有中括号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先算小括号里面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中括号里面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算括号外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44"/>
          <p:cNvGrpSpPr/>
          <p:nvPr/>
        </p:nvGrpSpPr>
        <p:grpSpPr>
          <a:xfrm>
            <a:off x="220680" y="3879720"/>
            <a:ext cx="3703320" cy="1800360"/>
            <a:chOff x="220680" y="3879720"/>
            <a:chExt cx="3703320" cy="1800360"/>
          </a:xfrm>
        </p:grpSpPr>
        <p:pic>
          <p:nvPicPr>
            <p:cNvPr id="90" name="Picture 45" descr="女孩1"/>
            <p:cNvPicPr/>
            <p:nvPr/>
          </p:nvPicPr>
          <p:blipFill>
            <a:blip r:embed="rId3"/>
            <a:stretch/>
          </p:blipFill>
          <p:spPr>
            <a:xfrm>
              <a:off x="220680" y="3879720"/>
              <a:ext cx="1151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1275120" y="4010040"/>
              <a:ext cx="2648880" cy="129204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加法、减法、乘法和除法统称为四则运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2340000" y="1673280"/>
            <a:ext cx="42130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6÷(1.2+0.5)×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138320" y="5445000"/>
            <a:ext cx="6818400" cy="521280"/>
          </a:xfrm>
          <a:prstGeom prst="rect">
            <a:avLst/>
          </a:prstGeom>
          <a:solidFill>
            <a:srgbClr val="7030a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四则混合运算过程中，遇到除法的商的小数位数较多时，一般保留两位小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2863800" y="2890800"/>
            <a:ext cx="3600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.6÷(1.2+0.5)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=3.6÷1.7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2" descr="女孩2"/>
          <p:cNvPicPr/>
          <p:nvPr/>
        </p:nvPicPr>
        <p:blipFill>
          <a:blip r:embed="rId1"/>
          <a:stretch/>
        </p:blipFill>
        <p:spPr>
          <a:xfrm>
            <a:off x="-1440" y="253692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27"/>
          <p:cNvSpPr/>
          <p:nvPr/>
        </p:nvSpPr>
        <p:spPr>
          <a:xfrm>
            <a:off x="1298520" y="2209680"/>
            <a:ext cx="4091040" cy="552600"/>
          </a:xfrm>
          <a:prstGeom prst="wedgeRoundRectCallout">
            <a:avLst>
              <a:gd name="adj1" fmla="val -54402"/>
              <a:gd name="adj2" fmla="val 109874"/>
              <a:gd name="adj3" fmla="val 16667"/>
            </a:avLst>
          </a:prstGeom>
          <a:solidFill>
            <a:srgbClr val="ffff00">
              <a:alpha val="55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6÷1.7=2.1176470588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接连接符 3"/>
          <p:cNvSpPr/>
          <p:nvPr/>
        </p:nvSpPr>
        <p:spPr>
          <a:xfrm>
            <a:off x="3301920" y="3905280"/>
            <a:ext cx="131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941560" y="4025880"/>
            <a:ext cx="2792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≈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.12×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2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3" descr="男孩1"/>
          <p:cNvPicPr/>
          <p:nvPr/>
        </p:nvPicPr>
        <p:blipFill>
          <a:blip r:embed="rId2"/>
          <a:stretch/>
        </p:blipFill>
        <p:spPr>
          <a:xfrm>
            <a:off x="7612200" y="378468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27"/>
          <p:cNvSpPr/>
          <p:nvPr/>
        </p:nvSpPr>
        <p:spPr>
          <a:xfrm>
            <a:off x="5322960" y="3606840"/>
            <a:ext cx="2268360" cy="9396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0000">
              <a:alpha val="2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般保留两位小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2" descr="女孩2"/>
          <p:cNvPicPr/>
          <p:nvPr/>
        </p:nvPicPr>
        <p:blipFill>
          <a:blip r:embed="rId1"/>
          <a:stretch/>
        </p:blipFill>
        <p:spPr>
          <a:xfrm>
            <a:off x="52560" y="195408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7"/>
          <p:cNvSpPr/>
          <p:nvPr/>
        </p:nvSpPr>
        <p:spPr>
          <a:xfrm>
            <a:off x="1503360" y="1954080"/>
            <a:ext cx="2994120" cy="1366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00b050">
              <a:alpha val="14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有加减法或乘除法时，按从左到右的顺序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3" descr="男孩1"/>
          <p:cNvPicPr/>
          <p:nvPr/>
        </p:nvPicPr>
        <p:blipFill>
          <a:blip r:embed="rId2"/>
          <a:stretch/>
        </p:blipFill>
        <p:spPr>
          <a:xfrm>
            <a:off x="7110360" y="24224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7"/>
          <p:cNvSpPr/>
          <p:nvPr/>
        </p:nvSpPr>
        <p:spPr>
          <a:xfrm>
            <a:off x="4597560" y="2089080"/>
            <a:ext cx="2493720" cy="1700280"/>
          </a:xfrm>
          <a:prstGeom prst="wedgeRoundRectCallout">
            <a:avLst>
              <a:gd name="adj1" fmla="val 62490"/>
              <a:gd name="adj2" fmla="val 233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c00000"/>
                </a:solidFill>
                <a:latin typeface="华文新魏"/>
                <a:ea typeface="华文新魏"/>
              </a:rPr>
              <a:t>既有加减法也有乘除法时，先算乘法法，后算加减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3"/>
          <p:cNvGrpSpPr/>
          <p:nvPr/>
        </p:nvGrpSpPr>
        <p:grpSpPr>
          <a:xfrm>
            <a:off x="4356000" y="4017960"/>
            <a:ext cx="4521240" cy="2098800"/>
            <a:chOff x="4356000" y="4017960"/>
            <a:chExt cx="4521240" cy="2098800"/>
          </a:xfrm>
        </p:grpSpPr>
        <p:pic>
          <p:nvPicPr>
            <p:cNvPr id="110" name="Picture 100" descr="81"/>
            <p:cNvPicPr/>
            <p:nvPr/>
          </p:nvPicPr>
          <p:blipFill>
            <a:blip r:embed="rId3"/>
            <a:stretch/>
          </p:blipFill>
          <p:spPr>
            <a:xfrm>
              <a:off x="7614000" y="431676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AutoShape 27"/>
            <p:cNvSpPr/>
            <p:nvPr/>
          </p:nvSpPr>
          <p:spPr>
            <a:xfrm>
              <a:off x="4356000" y="4017960"/>
              <a:ext cx="3188880" cy="1692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含有中括号的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要先算小括号里面的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再算中括号里面的</a:t>
              </a:r>
              <a:r>
                <a:rPr b="0" lang="en-US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最后算中括号外面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组合 2"/>
          <p:cNvGrpSpPr/>
          <p:nvPr/>
        </p:nvGrpSpPr>
        <p:grpSpPr>
          <a:xfrm>
            <a:off x="325440" y="3670200"/>
            <a:ext cx="4030560" cy="2044800"/>
            <a:chOff x="325440" y="3670200"/>
            <a:chExt cx="4030560" cy="2044800"/>
          </a:xfrm>
        </p:grpSpPr>
        <p:pic>
          <p:nvPicPr>
            <p:cNvPr id="113" name="Picture 45" descr="女孩1"/>
            <p:cNvPicPr/>
            <p:nvPr/>
          </p:nvPicPr>
          <p:blipFill>
            <a:blip r:embed="rId4"/>
            <a:stretch/>
          </p:blipFill>
          <p:spPr>
            <a:xfrm>
              <a:off x="325440" y="3913920"/>
              <a:ext cx="115056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AutoShape 27"/>
            <p:cNvSpPr/>
            <p:nvPr/>
          </p:nvSpPr>
          <p:spPr>
            <a:xfrm>
              <a:off x="1476000" y="3670200"/>
              <a:ext cx="2880000" cy="129276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含有小括号的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要先算小括号里面的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再算小括号外面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1"/>
          <p:cNvGrpSpPr/>
          <p:nvPr/>
        </p:nvGrpSpPr>
        <p:grpSpPr>
          <a:xfrm>
            <a:off x="3160800" y="752400"/>
            <a:ext cx="5076720" cy="1800360"/>
            <a:chOff x="3160800" y="752400"/>
            <a:chExt cx="5076720" cy="1800360"/>
          </a:xfrm>
        </p:grpSpPr>
        <p:sp>
          <p:nvSpPr>
            <p:cNvPr id="116" name="圆角矩形标注 21"/>
            <p:cNvSpPr/>
            <p:nvPr/>
          </p:nvSpPr>
          <p:spPr>
            <a:xfrm>
              <a:off x="3160800" y="924480"/>
              <a:ext cx="3456000" cy="86400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起总结四则混合运算的运算顺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" name="Picture 35" descr="42"/>
            <p:cNvPicPr/>
            <p:nvPr/>
          </p:nvPicPr>
          <p:blipFill>
            <a:blip r:embed="rId5"/>
            <a:stretch/>
          </p:blipFill>
          <p:spPr>
            <a:xfrm flipH="1">
              <a:off x="6437520" y="75240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4"/>
          <p:cNvGrpSpPr/>
          <p:nvPr/>
        </p:nvGrpSpPr>
        <p:grpSpPr>
          <a:xfrm>
            <a:off x="11160" y="5273640"/>
            <a:ext cx="4629240" cy="1279440"/>
            <a:chOff x="11160" y="5273640"/>
            <a:chExt cx="4629240" cy="1279440"/>
          </a:xfrm>
        </p:grpSpPr>
        <p:pic>
          <p:nvPicPr>
            <p:cNvPr id="119" name="Picture 19" descr="女天使副本"/>
            <p:cNvPicPr/>
            <p:nvPr/>
          </p:nvPicPr>
          <p:blipFill>
            <a:blip r:embed="rId6"/>
            <a:stretch/>
          </p:blipFill>
          <p:spPr>
            <a:xfrm>
              <a:off x="11160" y="5273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27"/>
            <p:cNvSpPr/>
            <p:nvPr/>
          </p:nvSpPr>
          <p:spPr>
            <a:xfrm>
              <a:off x="1445400" y="5625000"/>
              <a:ext cx="3195000" cy="576360"/>
            </a:xfrm>
            <a:prstGeom prst="wedgeRoundRectCallout">
              <a:avLst>
                <a:gd name="adj1" fmla="val -57476"/>
                <a:gd name="adj2" fmla="val 5097"/>
                <a:gd name="adj3" fmla="val 16667"/>
              </a:avLst>
            </a:prstGeom>
            <a:solidFill>
              <a:srgbClr val="7030a0">
                <a:alpha val="25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乘或除任何数都得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739880" y="264168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[113-(34.15+38.25)]÷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1"/>
          <p:cNvSpPr/>
          <p:nvPr/>
        </p:nvSpPr>
        <p:spPr>
          <a:xfrm>
            <a:off x="1255680" y="3068640"/>
            <a:ext cx="6985080" cy="5205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一个算式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中括号和小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先算小括号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中括号里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0:30:33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6:03Z</dcterms:modified>
  <cp:revision>308</cp:revision>
  <dc:subject>www.xkb1.com</dc:subject>
  <dc:title>www.xkb1.com</dc:title>
</cp:coreProperties>
</file>